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164D-455F-4DFF-93C8-D74C6518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185-13A9-42BF-9379-00B75C92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3768B-8036-44F0-90E0-9804372C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FC4FB-8796-4753-8DD2-66BF8718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5DC2E-C655-4D95-B783-19553BF1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35330-C93F-4F89-AC9B-1342BEFA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D8D75-04B0-42C5-8AB4-675B689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3A4CC-F789-4134-96F0-9F355DB4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83D70-756B-42B0-9273-63FB03D1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472E2-4CBB-48EE-BFAB-D271494F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11C2F-2EA1-4EA9-B368-CFC79194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08A3B-01ED-4DC0-9FD1-BC572E00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6D4-5441-4EA5-B138-76864ADE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3C930-F6E2-4C97-9EBC-B4BBC882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D870E-37AD-42B3-8382-64250FDA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4BE16-9B5E-4BDB-8895-7462EB50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AB02F-CA1F-4F4B-95BB-02447699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2B59C-1F19-4798-B7B2-5F4BAE27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58206-0490-4B52-BCD2-41B76F24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63E40-591E-4099-8B7F-6462D277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2E7AB-1BCB-418E-801C-5C1A14D0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A97A7-A03D-4F60-9338-3F3E8C7D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12A89-55B2-42F9-B1AA-6C7BF827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F33-4A3D-4A79-BF12-63300F53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9880A-760E-4134-A57F-6A4A0D3B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3B187-50D0-4DC2-994E-0EE109B8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B2F68-7520-4011-909A-2BC65621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95DF6-B3AC-414C-880C-44CA0E29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03BC9-F5E3-4A61-98D6-0DDD9714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F3A32-1D8D-403F-B5CC-45FDA984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7EDE6-CAB1-4778-B936-6172330B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0EE66-6A46-48A1-8359-60C5598B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A8FDD-6FBE-4B64-9306-9835D63C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F72F1-E649-4D33-BEDE-CE584A0F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656A-BE18-4542-9444-15D65F71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166B2-9D2D-432F-A31E-BCB06212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A057F-5442-4F1C-9B72-49249CA7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569F3-588E-432E-B5D8-01400D42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2FAFD-EA89-44CE-B611-BFEE216B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B850B-D375-45FA-8734-819F3A4C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16B8A-4A1E-44A7-84E1-973BABF4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3F17A-AE50-41A9-B32A-A9014E04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416AA-D94D-40F3-8DC3-3C34C5ED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6484C-0B1D-45CF-A4D9-7CBEBB2E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24BCC-C0A8-4FBF-BBAC-50991CE5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0E6D-F5CE-4877-8CAD-606DA171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4086C-76DD-4DEA-94D5-3F8C7A82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33609-DAAF-4588-A003-1C0BE164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D4AB6-608A-45C7-84B5-988268E2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F6229-F1C6-4D0B-8517-0BD935B0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5A313-6C56-4870-A6F4-658A5E54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67EA1-C17F-4BE2-938D-11D1DF08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2AEE5-6D26-4D58-8AC9-6785E02A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D69211-6CA7-47E7-8BB7-BF762A86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378CD-30F2-4ADB-9C1A-07BB1A39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FC2F7-FD82-4657-BA33-F2362CC7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CA72-FA86-47F6-BEF3-69F55608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D3A2B-605F-49A9-9882-D7C48831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E3523-74B3-45B4-A763-82D8CBE3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552C5-5049-442A-8B7A-578DD4ED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6A50A-974E-4967-ABB4-3C620E3B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F74CA-459F-45E6-8F19-1B930A17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7AF2C-215C-4DE6-8DCE-90E73817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4C77C-6F40-43C0-990A-EBEF5253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A9236-67F4-460B-88C5-302017B6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FD6C1-CFAB-4C78-B92D-2829FA64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F1568E-91DF-4A71-8494-64B11374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6344-799F-40F6-8EAB-1B729CE4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B7185-AAD1-40D2-8DC6-4017D547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13837-F38A-40A3-9739-EE7C7166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57312-D694-4921-8A8F-EA24B4D0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3F56C-ACAE-434D-BA11-42DBB4F8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3FDD3-C822-449B-B35E-A0BE078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42139-F924-4C1E-BC15-932B8A26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420D4-DA0A-4E76-9162-5CD23ED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5116C-F081-4FFD-9D09-899F5EEF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022AB-7A2D-42D3-861D-D7815FE2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5C1A9-C629-4DB2-AFEC-FD706424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9D93-4D70-48AE-9F54-A4A6FE35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2F4BD-A299-40CE-8A53-6FBD9959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94BDC-FE2E-4828-8772-8C0DDE33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02FF88-6989-45F8-8CC7-A5B99160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E4006-F358-4542-9FBD-DCE3A611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BCEAA-8682-4D82-9692-8A44A168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B7316-1281-4D57-85DE-68C40DE2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7451D-2E43-4A7C-A3C3-D4DF3085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F0392-E0A9-4099-BFD3-18355E5C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5591BF-61FC-4137-89B7-BE5DFE1C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3E94A-3AC6-4130-B37B-E9EC75B9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ABEE-3721-4CC0-A35E-B5DC5394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17257-4500-4D01-961A-F163B560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9B386-2E7B-4756-888D-3A4D33C6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F6EB5-5295-44F9-B858-F34CFCFD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E7E84-BF28-4E86-8518-F98DDB03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EA1DA-0907-4E08-8A47-F0E02D78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CF477-86C3-4C7E-B6DC-25AD3462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F0D6F-D3A3-4484-94A6-7B633ECC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15E54-84D0-43B3-AD8B-9D5585FB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D426CE-038F-4BFF-9EB5-4AAF864C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8BFA8-DFE6-4FA8-A50F-B77C260A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004C-79E2-4D44-BDFC-FFFAC29E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A53EC-7EC3-4CAF-AA6D-36F5AB80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67ABB-7AD1-4651-9BFF-62910100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BB130-CD62-4F63-B686-F72DA4F1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67EDC-45F3-4C85-AC86-106FABFC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E2284-5963-4C7F-85E9-978FBB93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9CD51-5C51-4D7E-8B58-E0C1F1EE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BB2A3A-80E5-4E84-ADA3-693CFDDF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AB25BA-E827-48C3-BED4-029634A7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1DA5A-AC0B-4247-8651-D361CF92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43B6C-BEE4-4D44-B40D-0A9246B0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5F7-AEDB-4513-80C8-C2FC72D1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F495-306C-4A79-B07E-3D88C699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D9ABE-1CA1-44B5-92AC-18E1A230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D07C39-AEDD-4811-904A-AF78CA04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6CEDE6-BFD3-43FA-9701-1C3FBF0F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D2E66-B743-4B11-A15F-6395A24D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409230-1A34-46F5-B38A-908363E6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6A23C3-5B81-497D-AC51-7D6ECBF2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1774AE-82B2-4C42-A161-F91AC096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10498-A351-4E3D-B209-6204706F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E3727-2CD2-46D3-8935-D96F30FB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0D197-52AF-456F-B46B-4BC06EE6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A169-92A1-4F3D-B946-4CA62556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7D5B7-B6C8-4304-B0B5-5C7B618D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9A42D1-5EFC-4B8C-969C-CBFB350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BC7FD-B9B4-444A-BD1E-6FD55351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47B87C-ACDA-4A1C-AE24-F9D5BD42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AEDCB7-A77A-48FD-8E3E-A98F6E1F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17E4A-00BA-4753-B967-6E3F49E8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AE1A5-0BD4-4133-ADF9-36C97D00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D25B34-5FD9-4132-BEEC-F8748376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FBDE82-96A7-41CB-AE3A-76807956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7D82E8-B0FE-4321-9836-9982450C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79CD-964A-4892-8FB0-537FD7F5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225D2B-A607-4067-B46C-C80CC92E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11DDAC-C7BA-40C2-B8E8-7987B5BE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CB16AD-1A85-4524-AF92-9CD40560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94CAF4-4E42-496A-9042-ADF92E26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6A11BC-A28C-4A38-BD2C-E33C3556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53DF6-E0FA-4178-85DC-405D1059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3198C9-8B12-4F88-97F3-1AC9FB1E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77137C-C2E2-461E-A527-3FD26FBE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3D6C4-263E-463C-AF4A-DA0829BA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E9551F-8161-4579-91A8-39D87406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1285-0ED5-49CA-B52C-BB546966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940347-3FB2-42F1-A56E-3EBE771B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5D0071-94DA-4B2F-BBCA-53D373DB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2F76FE-5B03-4DB9-9747-9A14CAC2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DD716-F23C-4AA5-9ADD-782B0A1B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2DC07-E19E-475A-A12E-67A2AC8B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84027-3543-4DE6-8D79-D811FB7C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3AD143-5E25-48DE-85F3-6FDB108B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56DD9-70BE-4AB5-A1CC-62697DEE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EA4E5-159A-4665-BEF2-A2E7FC8C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BE871-839D-4000-AD68-8BCDF330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3771-9B7C-4FC2-A03C-8A2704F5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CD918-863F-43D5-830F-5D19674E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5E7199-11B1-44C9-A9C9-5C6447C0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544E4-D30D-47A3-BD3C-0BEE2969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C486AD-4A07-488F-B3E1-1003B064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089EF-60E9-4BB5-952A-6B7B2863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3952C-1A1A-4EAB-8225-ECA26F84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234A9B-C425-4B1B-B50B-624419C0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E0C338-709D-4627-B640-7DCE63B2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4E75D2-B902-4E04-9CFA-0E079D64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E4BF95-4DC4-46E5-982C-490571DC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D306-1A5A-41A9-B141-29B198D6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6B2B89-D716-453D-959F-7F83A8D4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A0EBE7-53E4-4E8A-8DA4-8FF915F4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2DA6B6-233C-4C02-98E7-EDC8BF7E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ACAEE-77D9-47D3-98C6-065D395D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4C60-EBBA-4AF3-8D98-57838DC4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6BD23-9A19-4C10-9293-A53D9977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0FBA-9458-420C-A02A-7DD4CF73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B6E-3574-471D-BC00-B6ED4453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4BAE-CDBA-4CA1-901C-572F2283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11DF2-23C6-435A-BDA7-7791EFE7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B66A-4649-4AD6-BA03-9E34885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F836-0969-40BC-9E69-F2F6F270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D457-4F82-49B1-AC4D-44FBBDDB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3415-6799-4425-AA67-42020F11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E634B-22D7-4C05-9358-F070E0A4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4FBAA-23BA-438C-9214-C5F5C69F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802F-BEA3-4386-A089-41D6A7D4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7918-7B36-4E34-98B6-A6D2A73E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6BE-FA4E-4D39-86E4-22966E54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C83FE-72B0-4C6B-AD89-CF981EC3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7518F-B43A-48B9-81DE-AA5409F7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B5D1D-63D5-4094-970C-D70622D9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01A02-1748-4762-9E07-9F013581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E956-6C33-4674-A717-D0E58655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C727F-937A-44A5-8524-C858D5C9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49EE4-9B81-403D-B388-CDFA7C4B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1CF2-D6FD-43E0-9B7E-9D80FBF3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FE6A-66D8-4C4F-A48B-45DD0C40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134D8-E5FE-4E4B-9BA7-0C000228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72F-4BDD-494F-95A4-DC52A8CE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F91F1-D60F-4143-8958-D3076074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B1C02-4363-4155-8C84-388E8D6E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079E-198A-4F71-B454-FC6FC7E5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DEC6E-AB45-4BF4-A9A0-C93B0645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D2DB7-42A3-438A-8032-95DA1973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F3297-39D3-4912-9889-2DBBD880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B4579-BEFB-4506-A8B5-1AA2222B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56C82-4043-4E91-9723-C193BF73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2435-9E04-44E2-BC71-29C6C982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EEAB-0676-4FCE-8AB5-1A42AFBF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9DE-9176-4AB1-AD7A-1933C73F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71FC6-4528-445B-A3BD-C5BB5809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10172-7311-48E8-86BD-C7ABE192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E2882-44C7-4DBD-9DD5-0EC5D141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63110-451C-40B2-AE0A-209F054F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85F46-9545-4F02-B00D-609EB8B0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5B149-297C-4746-9309-75552C68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E85B-EAF1-45AE-B97C-2845DC61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5A656-53D4-44B1-9849-D4964B36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501B9-26CF-4141-BD39-A266A099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B8266-FB21-42F4-AF73-006DEC96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BF4-6282-4A55-A1F9-4D1B5659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68313-8CAA-4F1C-BA93-5CEAE79A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B6654-4B82-4166-97DE-1660DFD6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B04FC-194F-4B1A-9B0A-95C70C3A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D9FCF-2704-42B3-B460-5B1C4B5A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717D0-FE46-4A51-B936-24ECD335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1878-8927-4EE2-ABB1-A905464E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41459-E6B3-46F2-B513-172C4EF9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86DF-725F-4777-9028-52ECB92B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F779E-5E65-4F10-BB65-A26B7046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6B215-A439-4AD1-99AB-BAA6EF02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319-5AEA-42BD-8110-9FDFA218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51CB0-46A6-4A50-A8B9-630601EE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132CB-4149-4E68-A247-D353C961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12B40-63EE-4DD6-B39D-1073014E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D47CF-4628-4E5C-82A9-3F0EA1E7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4DE34-8BF8-4AFA-91D5-47098299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17C99-3E0D-4382-9769-2494CB53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FA4C7-5C79-4AD7-A785-4C9A6E9F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F38B1-58B4-47DD-809F-D5E766D6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6F508-03A4-4F62-BE90-331A9C52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2DD18-EEA2-47D1-942F-C40B7E23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ED0-1B26-40C9-B0F0-A6E7F37E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917F2-44FC-4633-9C59-1F8262E3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65B28-22D9-4B52-B1AE-4F01B61A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60356-174D-4415-8433-B712902E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9806C-A47C-4C7A-8165-6D33EBB3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27BB2-A5A1-4AEB-ABA3-C12F0974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8574E-82AA-41B2-95E1-0128BB61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F247A-8B56-4E7C-97B6-D8ECDC23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CE70B-1ED9-499C-95C8-3DD69C36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D1B9D-DCF6-4270-AE28-A2152EDD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BC321-1133-40F1-A76C-AEE9DB8C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86D4-94D9-4815-AEE7-F17E3EA6C7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B502-8F95-4F19-AAAA-A7B7AEF6B4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BA44-9FEE-40A4-9232-92BD725911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9D0F-F594-46F9-97EF-22CB2689F5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BCB2-2C93-4A27-9206-A49AAD457E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4E3F-24CB-4122-BD63-69B495B20C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7D28-96BA-4FFE-A132-D364C1BCD8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490A-0FA7-4047-A258-C2DFA7CCA4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AB73-DFC0-4ED1-A43C-57988B09BE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4AD0-9BF3-4BD2-A847-47858C509F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BEA1-E4F0-4A9D-9CD4-47424BC205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345E-049C-4DFF-9C00-4457F9EDCF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AB72-4BF3-4FFF-B28A-6D874EBD83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B2F9-DAE9-4096-9BE5-C58B8A0A0F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C52E-A77D-4630-86A4-D9BD9F57D5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B14D-451A-4A5F-8B42-4E4917DA56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0D6E-AEC6-4CC3-BDFE-834D6A54FF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0D4F-EB4B-44DD-9BDA-B0D4691DCF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37AE-0D18-40E8-9D32-6ED12D8FDC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B1BB-0F41-4B95-B971-E76963A87E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4ED2-944F-446A-B3BF-99F161170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D7DE-9079-4B99-9D9E-3E51ADAD0E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73BF-B3F8-4DDB-9277-A67A2BDFB0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08F4-07B9-4645-B21F-282166C394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35C4-61AD-468D-A9E2-91433B282B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9CE8-977E-4057-AC65-CAEB69761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858E-04BD-4831-ACB6-41C2C53EAC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9CB8-2A80-4D0C-B9DE-F0B7190BF5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42C1-7868-48E0-B4A7-2CB127564A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F569-ED37-47C6-96BF-AC03B4B0C3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41E0-0FFD-4818-8C7A-BA6697F148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7CCB-CCEB-4BA9-94BB-5F681682F9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FD49-3AB0-4E1D-948F-F134B31ECB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D729-A6A2-445C-AA53-B6AF5224EF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A839-1CEC-47E7-8E91-7A862F22D4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3E49-7AC1-42D3-9DB9-1854773D4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83EA-497D-494A-9DFB-944F50E6A8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BF90-2B0E-4A1F-BC13-D60DD685F9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45CE-11DE-44BE-9C5E-BE847EFACE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5B06-7410-46E3-B4DD-A8373C83C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881360" y="2886120"/>
            <a:ext cx="53812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69633" descr=""/>
          <p:cNvPicPr/>
          <p:nvPr/>
        </p:nvPicPr>
        <p:blipFill>
          <a:blip r:embed="rId1"/>
          <a:stretch/>
        </p:blipFill>
        <p:spPr>
          <a:xfrm>
            <a:off x="480960" y="804960"/>
            <a:ext cx="8182080" cy="5248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23200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3059280" y="214776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5148360" y="2809800"/>
            <a:ext cx="93636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3851280" y="5459400"/>
            <a:ext cx="936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68609" descr=""/>
          <p:cNvPicPr/>
          <p:nvPr/>
        </p:nvPicPr>
        <p:blipFill>
          <a:blip r:embed="rId1"/>
          <a:stretch/>
        </p:blipFill>
        <p:spPr>
          <a:xfrm>
            <a:off x="314280" y="1986120"/>
            <a:ext cx="8515440" cy="28857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900000" y="4062240"/>
            <a:ext cx="2232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60430"/>
          <p:cNvGrpSpPr/>
          <p:nvPr/>
        </p:nvGrpSpPr>
        <p:grpSpPr>
          <a:xfrm>
            <a:off x="257040" y="152280"/>
            <a:ext cx="8636040" cy="6589800"/>
            <a:chOff x="257040" y="152280"/>
            <a:chExt cx="8636040" cy="6589800"/>
          </a:xfrm>
        </p:grpSpPr>
        <p:pic>
          <p:nvPicPr>
            <p:cNvPr id="923" name="图片 60428" descr=""/>
            <p:cNvPicPr/>
            <p:nvPr/>
          </p:nvPicPr>
          <p:blipFill>
            <a:blip r:embed="rId1"/>
            <a:stretch/>
          </p:blipFill>
          <p:spPr>
            <a:xfrm>
              <a:off x="257040" y="152280"/>
              <a:ext cx="86299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图片 60429" descr=""/>
            <p:cNvPicPr/>
            <p:nvPr/>
          </p:nvPicPr>
          <p:blipFill>
            <a:blip r:embed="rId2"/>
            <a:stretch/>
          </p:blipFill>
          <p:spPr>
            <a:xfrm>
              <a:off x="1025640" y="4970520"/>
              <a:ext cx="7867440" cy="177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6012000" y="292428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156360" y="414972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8388360" y="5589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476360" y="6194520"/>
            <a:ext cx="107964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6443640" y="6194520"/>
            <a:ext cx="1081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252360" y="782640"/>
            <a:ext cx="8639280" cy="5886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7272360" cy="10083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539640" y="4595760"/>
            <a:ext cx="7272360" cy="1008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468360" y="5675400"/>
            <a:ext cx="7272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85840" y="1486080"/>
            <a:ext cx="8572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880920" y="1709640"/>
            <a:ext cx="7382160" cy="343872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7353" descr=""/>
          <p:cNvPicPr/>
          <p:nvPr/>
        </p:nvPicPr>
        <p:blipFill>
          <a:blip r:embed="rId2"/>
          <a:stretch/>
        </p:blipFill>
        <p:spPr>
          <a:xfrm>
            <a:off x="1052640" y="1733400"/>
            <a:ext cx="70387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1071720" y="1805040"/>
            <a:ext cx="7000560" cy="3247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7128000" cy="9363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826920" y="2938320"/>
            <a:ext cx="7128000" cy="936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755640" y="4135320"/>
            <a:ext cx="7128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276120" y="1000080"/>
            <a:ext cx="8591760" cy="485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2050920" y="3313080"/>
            <a:ext cx="5689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4276" descr=""/>
          <p:cNvPicPr/>
          <p:nvPr/>
        </p:nvPicPr>
        <p:blipFill>
          <a:blip r:embed="rId1"/>
          <a:stretch/>
        </p:blipFill>
        <p:spPr>
          <a:xfrm>
            <a:off x="1162080" y="2305080"/>
            <a:ext cx="6819840" cy="22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042920" y="2406600"/>
            <a:ext cx="6553440" cy="951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1042920" y="3559320"/>
            <a:ext cx="65534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223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76438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6:1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